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his%20is%20Jeopardy.wav" ContentType="audio/x-wav"/>
  <Override PartName="/ppt/media/image1.wmf" ContentType="image/x-wmf"/>
  <Override PartName="/ppt/media/jeop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8F0-8599-4E13-B0F8-818FD4F0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437-756D-409D-812B-BAFFD11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D17-F701-46F7-84CE-93C090BE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68D-6D7A-4645-BF28-89DD0AB2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BC9-AD04-45E9-A6A0-A7C73A93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6A6-1612-4DF8-AE77-6B0EE9A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659F-6084-45BE-AB3F-943E990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466-063C-4916-BD89-A1FD4FAB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C12F-40BC-4897-AF5C-E036FB9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3962-1998-4FCB-8E39-CF52A51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6D0A-E1E2-45CF-99ED-CBB6AB2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102-C5D7-4699-A09C-550E276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6F6-007B-4CCC-A35C-01CD55D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3DCB-0C14-4D2F-8AB6-FA8435CE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C07B-1080-4CB7-B8A8-D0F80C25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DE0B-870B-4917-AE9D-9F35A629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21F-610B-4391-B96C-9907B267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2B2-4531-40AD-95CE-3C9A8AC8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14D-D5FA-422D-A918-1998B2C5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A2D-D0C5-4F86-8F22-3599622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C60-2173-44F5-98F3-06EE5C68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451-A9DC-4205-9E37-C8437244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E2B-EA90-478E-B4EC-D892E0A1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CBC-D34E-44F5-809B-00AD094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2550-080E-4FB8-8162-D9A1A2680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A1A3-D97B-4E3B-AAEC-C3F58501E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is%20is%20Jeopardy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912680" y="3168720"/>
            <a:ext cx="53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oss-pollin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62120" y="220968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aw of segregation states that during fertilization, gametes randomly pair to produce this many combinations of alle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286000" y="316872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ou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90720" y="2514600"/>
            <a:ext cx="787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w cells produced in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eiosis  differ from the original cel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22860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y have half the number of chromosom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21337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re are this many divisions of Meiosi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62120" y="2286000"/>
            <a:ext cx="83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wo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eiosis I &amp; Meiosis I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85800" y="2133720"/>
            <a:ext cx="76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iosis begins with this type of cell, which has two complete sets of chromosom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914480" y="3168720"/>
            <a:ext cx="534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iploi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2743200"/>
            <a:ext cx="769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Meiosis results in the formation of the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898920" y="17524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86560" y="17524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net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96760" y="17524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-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841080" y="17524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26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our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haploid gamete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990720" y="2209680"/>
            <a:ext cx="758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rossing over occur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n this ph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ei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01480" y="3124080"/>
            <a:ext cx="629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Prophase I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914400" y="2514600"/>
            <a:ext cx="81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possible genotype(s)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an result from the following cross: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T  X  t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99720" y="316872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16600" y="2209680"/>
            <a:ext cx="858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possible phenotype(s)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rom the following cross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t X T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24382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Tall and shor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894680" y="3168720"/>
            <a:ext cx="691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homozygous tall plant is cro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a heterozygous tall plant.  W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 possible genoty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891440" y="3168720"/>
            <a:ext cx="7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41320" y="2514600"/>
            <a:ext cx="72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a plant heterozygous for he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seed color (TtYy), is cross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a plant heterozygous for heigh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homozygous for seed color (Tty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a Punnett square to repres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r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3200400"/>
            <a:ext cx="81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del work with these 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ty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AutoShape 46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94320" y="2743200"/>
            <a:ext cx="709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dihyrbid cross between a true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eding tall plant with round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 true-breeding short plant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nkled seeds, what are the possib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otypes of the F1 gener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unnet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893600" y="31687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have the genotype Tt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893240" y="3168720"/>
            <a:ext cx="657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failure of homologo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omosomes to separate proper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meiosis call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891800" y="31687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disj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894680" y="3168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ndition called when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ygote has an extra chromos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891440" y="3168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so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894320" y="3168720"/>
            <a:ext cx="64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ndition called wh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zygote lacks a chromos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90720" y="316872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oso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893240" y="316872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yploidy frequently occurs in w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d of organism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911960" y="316872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Pea Pla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891080" y="316872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893960" y="3168720"/>
            <a:ext cx="689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result of a zygote ha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tra #21 chromos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Uh-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890720" y="316872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 Syndr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893240" y="3168720"/>
            <a:ext cx="62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you flip a coin, what i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ability that it will be hea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91080" y="31687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894320" y="3168720"/>
            <a:ext cx="70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sults predicted by probabi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more likely to be seen when t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a (large or small) number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spr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891440" y="31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91440" y="3168720"/>
            <a:ext cx="631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always get the results sh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Punnett squa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891080" y="31687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892520" y="3168720"/>
            <a:ext cx="63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following cross, what i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ability for each possib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otyp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X 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6360" y="3048120"/>
            <a:ext cx="79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 that Gregor Mendel concluded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ible for inherit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890360" y="3168720"/>
            <a:ext cx="191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= 1/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= 1/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 = 1/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892520" y="3168720"/>
            <a:ext cx="638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following cross, what is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ability for each phenotyp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gTt X GgT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 = gre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 = t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 = yell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 = sh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roba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891440" y="3168720"/>
            <a:ext cx="37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 Green and T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Green and Sh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Yellow and T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Yellow and Sh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07800" y="2438280"/>
            <a:ext cx="84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the results of Mitosis differ from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ults of Meios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503000" y="2766960"/>
            <a:ext cx="7352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tosis results in 2 diploid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dentical to the parent c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iosis results in 4 genetically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haploid cell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889280" y="3168720"/>
            <a:ext cx="51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68680" y="2819520"/>
            <a:ext cx="755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sulting phenotyp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del’s cross between true-bree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ll plants and true-breeding short 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890360" y="3168720"/>
            <a:ext cx="48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all pla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8153280" y="5791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15920" y="316872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cess used by Mendel 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e hybrid pl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lrobinson</cp:lastModifiedBy>
  <dcterms:modified xsi:type="dcterms:W3CDTF">2008-02-25T17:01:20Z</dcterms:modified>
  <cp:revision>97</cp:revision>
  <dc:subject/>
  <dc:title>Jeopardy</dc:title>
</cp:coreProperties>
</file>